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98E-EDC3-476E-8435-4F41207C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262-ABF9-4096-9131-004D80D1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908-F7A4-43F9-8A6B-8D984562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482-42BD-4376-AF1A-189F71BC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CA5-1CE2-4C8D-91D3-E84D1F95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329-6153-4683-85F1-B5A2F4B9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317-3C07-4F26-9D0F-585E8F41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4A5-1588-4141-96B3-EBC0B8D1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992-88D3-4255-8E56-CA3B4067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714-9265-434A-92E7-DE35A77F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82C-7159-45AD-83DB-E3892BB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C68-20EC-49E5-B8DB-C7C639B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E0C-3C8D-4801-B1BB-1D5C70168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0574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9436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8991720" cy="31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9132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2365200"/>
            <a:ext cx="624852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651200" cy="465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6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172200" cy="460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8672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2:30:25Z</dcterms:created>
  <dc:creator>cdoty</dc:creator>
  <dc:description/>
  <dc:language>en-US</dc:language>
  <cp:lastModifiedBy>rcipolla</cp:lastModifiedBy>
  <dcterms:modified xsi:type="dcterms:W3CDTF">2009-03-10T19:32:03Z</dcterms:modified>
  <cp:revision>8</cp:revision>
  <dc:subject/>
  <dc:title>Slide 1</dc:title>
</cp:coreProperties>
</file>